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A44-1C11-45AD-B450-F206325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091-16E1-450B-8D95-16D65A1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3F2-F694-483E-91F6-6DF0540A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880-7B00-42E2-971C-FDF853DF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A4B2-1AB0-4935-A519-44A0ABE5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93C-EA9A-4B9E-867C-1460236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F85-06FB-439B-9AC1-879F679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9054-2470-487D-A076-05E14D59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4E5-BD1E-49EA-BC94-1E85F34C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E2E-675C-44D1-ABDF-C0033128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1CD4-1898-4297-9E03-585BEF5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BC5-ADFF-43C9-A8A5-CE292F3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607B-2D89-4F6F-99C8-740152E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CF7-AA23-48C7-AB7D-E243BB4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228F-A11F-4687-8598-B9A991FF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600-7709-40CD-94AA-37611F6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8F09-317F-4EE1-AFD7-8FD66228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D63-E5BC-429A-B7A7-3DC1699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9B2-D2DB-427C-A23A-56D2125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6F2-2224-4083-A626-7EB9849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136-4B0C-45B1-9906-8CB27EE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E9C-4E0C-4DAF-9FBC-91FF38D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781-84C6-4D07-AA31-6945E14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D92-72F7-4D71-9D34-B43FDE9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A63F-B8D5-4866-A1A4-AA8ECD611C3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931-C853-4CB9-9223-83702069285B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1295280" y="2060640"/>
            <a:ext cx="3581640" cy="357804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7" name="AutoShape 10"/>
          <p:cNvCxnSpPr>
            <a:stCxn id="135" idx="1"/>
            <a:endCxn id="13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13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2728800" y="1608120"/>
            <a:ext cx="2678400" cy="4381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407200" y="1635120"/>
            <a:ext cx="37800" cy="1159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5265720" y="1622520"/>
            <a:ext cx="141480" cy="2376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2819520" y="851040"/>
            <a:ext cx="2590560" cy="28080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5291280" y="1042920"/>
            <a:ext cx="104760" cy="14148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8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8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AP</cp:lastModifiedBy>
  <dcterms:modified xsi:type="dcterms:W3CDTF">2015-04-07T03:41:52Z</dcterms:modified>
  <cp:revision>97</cp:revision>
  <dc:subject/>
  <dc:title>FUNKCJA JEDNEJ ZMIENNEJ</dc:title>
</cp:coreProperties>
</file>